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44F-2250-4BC3-8A45-C8B6E98F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90E-3667-4FFB-B5E0-D3743A87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DBF-C7B2-464E-9F6C-B83F9D3D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C61-C6BC-45F6-A20E-C98B0E7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01F-D226-465B-817F-0345239C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40B-6B41-409A-A4B1-4E708BE0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2728-AE56-4E46-BBD3-C2FEEC6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9E29-2902-44C7-92A7-05AAC00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F41D-0C81-4CF1-81A5-9F416D37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DCE-2EC2-44B9-8054-7B4FF5F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CF1-667D-42F2-AA1F-23C01D0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2CD-9800-453D-936B-492FB4D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CF9-FC0B-48F8-9250-8A9AA92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509F-C02F-410A-89F5-11E4AF1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EA6-1A94-4C80-B018-77CEE1C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0EB5-19C6-45E9-BA06-B5FDD3F0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38A0-EDE7-4D22-B6D5-DEBE2AEC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A60-ACBA-41CE-B885-D3FB91B9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129-AD72-4F6F-84BB-6AE37A4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05F-EF97-403A-905B-EFD8781B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282-B7C8-4184-9868-ADE800A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E27-5F34-422D-85AC-C1B9267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5FE-C08D-4FDA-8E73-2610816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27B-AFEC-434A-8ECE-5EAD7FA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80A-7225-4C00-A95A-4FE347BC4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10F-C194-468A-8145-C62CF2D47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game.com/" TargetMode="External"/><Relationship Id="rId2" Type="http://schemas.openxmlformats.org/officeDocument/2006/relationships/hyperlink" Target="http://www.javascript.interne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eparation of the body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kill related and mental fi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ess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Wednesday 26</a:t>
            </a:r>
            <a:r>
              <a:rPr b="1" lang="en-GB" sz="3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eriod starter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pages 6 &amp; 7, then complete workbox 2 in your course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the top paragraph on page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659640" y="4437000"/>
            <a:ext cx="2044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this paragraph is telling you if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good 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poor 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64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kill related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ility –  The ability to change position and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direction quickly and precis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ing –  The ability to accurately perform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are each of  these skill related aspects of fitnes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kill related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iscu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practice have you tried in hockey that required you to have good ag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the practice (use a diagram if necess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swer the same question for good ti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ntal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rmin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n individuals desire to 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hat drives a player to improve and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entr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 player must be fully focused on what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they are trying to achieve. Players must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concentrate for the duration of a game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to avoid making mist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&amp; complete page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96360" y="4869000"/>
            <a:ext cx="127620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ntal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this information telling 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we improve mental fitn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 on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www.agame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ultitask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javascript.internet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concentration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each of the concentration games on these websites and record your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2:19:25Z</dcterms:created>
  <dc:creator>FlemingC1</dc:creator>
  <dc:description/>
  <dc:language>en-US</dc:language>
  <cp:lastModifiedBy>FlemingC1</cp:lastModifiedBy>
  <dcterms:modified xsi:type="dcterms:W3CDTF">2009-08-25T15:26:29Z</dcterms:modified>
  <cp:revision>4</cp:revision>
  <dc:subject/>
  <dc:title>Preparation of the body  Skill related and mental fitness</dc:title>
</cp:coreProperties>
</file>